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79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635-EA85-49ED-AC6D-3F8154AB3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7B9A-EB6F-4491-89C2-5BBC55D3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09320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3268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384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592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384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592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901800"/>
            <a:ext cx="7619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3268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409320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3268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384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05920" y="211104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384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05920" y="4093200"/>
            <a:ext cx="23061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901800"/>
            <a:ext cx="7619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32680" y="409320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2680" y="2111040"/>
            <a:ext cx="3495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093200"/>
            <a:ext cx="7162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79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a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4" marL="201600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5" marL="2016000" indent="-223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6" marL="2016000" indent="-223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  <p:pic>
        <p:nvPicPr>
          <p:cNvPr id="2" name="Picture 15" descr="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80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0"/>
          <p:cNvSpPr/>
          <p:nvPr/>
        </p:nvSpPr>
        <p:spPr>
          <a:xfrm>
            <a:off x="8229600" y="6240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7" descr="title"/>
          <p:cNvPicPr/>
          <p:nvPr/>
        </p:nvPicPr>
        <p:blipFill>
          <a:blip r:embed="rId2"/>
          <a:stretch/>
        </p:blipFill>
        <p:spPr>
          <a:xfrm>
            <a:off x="127080" y="101520"/>
            <a:ext cx="8915400" cy="6694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01800"/>
            <a:ext cx="7619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79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79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2111040"/>
            <a:ext cx="7162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a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4" marL="2016000" indent="-223920">
              <a:lnSpc>
                <a:spcPct val="90000"/>
              </a:lnSpc>
              <a:spcBef>
                <a:spcPts val="1400"/>
              </a:spcBef>
              <a:buClr>
                <a:srgbClr val="0037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5" marL="2016000" indent="-223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  <a:p>
            <a:pPr lvl="6" marL="2016000" indent="-223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79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79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28600"/>
            <a:ext cx="70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Health Research Project Ethical Review Tr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286680" y="990720"/>
            <a:ext cx="1773000" cy="157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106880" y="3032280"/>
            <a:ext cx="233676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587600" y="4343400"/>
            <a:ext cx="312408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588000" y="3865680"/>
            <a:ext cx="251316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0" y="816120"/>
            <a:ext cx="1600200" cy="15238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Seeking acces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to existing dat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collec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contain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non-identifi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63360" y="2805120"/>
            <a:ext cx="1524240" cy="1447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Is con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be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obtain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762280" y="839880"/>
            <a:ext cx="1523880" cy="14763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s risk le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egligib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373800" y="10666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XEMP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5397480" y="32767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R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349360" y="5075280"/>
            <a:ext cx="1447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858960" y="2346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535040" y="3094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946080" y="43894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822320" y="12351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286160" y="3529080"/>
            <a:ext cx="8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587600" y="1600200"/>
            <a:ext cx="1184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4290840" y="1577880"/>
            <a:ext cx="199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2968560" y="4267080"/>
            <a:ext cx="0" cy="80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826920" y="4267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81432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803160" y="2330280"/>
            <a:ext cx="0" cy="48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1573200" y="3535200"/>
            <a:ext cx="68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3720960" y="3527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1633320" y="4923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6970680" y="40147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EVEL OF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0"/>
          <p:cNvSpPr/>
          <p:nvPr/>
        </p:nvSpPr>
        <p:spPr>
          <a:xfrm>
            <a:off x="6794640" y="45496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7099200" y="4495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EXEMP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(Inconvenience onl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2"/>
          <p:cNvSpPr/>
          <p:nvPr/>
        </p:nvSpPr>
        <p:spPr>
          <a:xfrm>
            <a:off x="6794640" y="5067360"/>
            <a:ext cx="304560" cy="3049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7213680" y="50292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(Only discomfor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4"/>
          <p:cNvSpPr/>
          <p:nvPr/>
        </p:nvSpPr>
        <p:spPr>
          <a:xfrm>
            <a:off x="6794640" y="5626080"/>
            <a:ext cx="30456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7074000" y="5608800"/>
            <a:ext cx="1973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000000"/>
                </a:solidFill>
                <a:latin typeface="Arial"/>
              </a:rPr>
              <a:t>MORE THAN 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2961000" y="445464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ore than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4136040" y="3094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114480" y="6103800"/>
            <a:ext cx="611316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</a:rPr>
              <a:t>For proposals requesting VCR data see the VCR Access proced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*Form for Exemption to be lodged with RGU prior to project commencement, to be ratified as exempt by IRRC at its next mee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220840" y="2789280"/>
            <a:ext cx="1500120" cy="1477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EVEL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923000" y="1201680"/>
            <a:ext cx="7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23:18:45Z</dcterms:created>
  <dc:creator>ksharp</dc:creator>
  <dc:description/>
  <dc:language>en-US</dc:language>
  <cp:lastModifiedBy>Cathy Schapper</cp:lastModifiedBy>
  <cp:lastPrinted>2017-03-07T22:45:32Z</cp:lastPrinted>
  <dcterms:modified xsi:type="dcterms:W3CDTF">2017-06-23T06:01:48Z</dcterms:modified>
  <cp:revision>17</cp:revision>
  <dc:subject/>
  <dc:title>PowerPoint Presentation</dc:title>
</cp:coreProperties>
</file>