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5426-3E0F-4662-91A5-3C533946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4BB-08AB-435E-9962-1C3A1454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384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59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384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59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901800"/>
            <a:ext cx="761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384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059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384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059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901800"/>
            <a:ext cx="761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a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4" marL="201600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5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6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pic>
        <p:nvPicPr>
          <p:cNvPr id="2" name="Picture 15" descr="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8229600" y="6240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7" descr="title"/>
          <p:cNvPicPr/>
          <p:nvPr/>
        </p:nvPicPr>
        <p:blipFill>
          <a:blip r:embed="rId2"/>
          <a:stretch/>
        </p:blipFill>
        <p:spPr>
          <a:xfrm>
            <a:off x="127080" y="101520"/>
            <a:ext cx="8915400" cy="6694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a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4" marL="201600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5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6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70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Health Research Project Ethical Review T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286680" y="990720"/>
            <a:ext cx="1773000" cy="157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106880" y="3032280"/>
            <a:ext cx="233676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87600" y="4343400"/>
            <a:ext cx="312408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588000" y="3865680"/>
            <a:ext cx="251316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816120"/>
            <a:ext cx="1600200" cy="15238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Seeking acce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to existing dat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collec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contain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non-identifi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63360" y="2805120"/>
            <a:ext cx="1524240" cy="1447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Is con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be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obtain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762280" y="839880"/>
            <a:ext cx="1523880" cy="1476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s risk 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gligi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373800" y="10666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EMP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5397480" y="32767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R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349360" y="507528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858960" y="2346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535040" y="3094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946080" y="4389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822320" y="12351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286160" y="3529080"/>
            <a:ext cx="8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587600" y="1600200"/>
            <a:ext cx="118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4290840" y="1577880"/>
            <a:ext cx="19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2968560" y="4267080"/>
            <a:ext cx="0" cy="80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826920" y="4267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81432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803160" y="2330280"/>
            <a:ext cx="0" cy="48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1573200" y="3535200"/>
            <a:ext cx="68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3720960" y="3527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633320" y="4923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6970680" y="4014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VEL OF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6794640" y="45496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7099200" y="4495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EXEMP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(Inconvenience onl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6794640" y="5067360"/>
            <a:ext cx="30456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7213680" y="50292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(Only discomfor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4"/>
          <p:cNvSpPr/>
          <p:nvPr/>
        </p:nvSpPr>
        <p:spPr>
          <a:xfrm>
            <a:off x="6794640" y="5626080"/>
            <a:ext cx="30456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074000" y="5608800"/>
            <a:ext cx="197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MORE THAN 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2961000" y="445464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ore than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4136040" y="3094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114480" y="6103800"/>
            <a:ext cx="61131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For proposals requesting VCR data see the VCR Access proced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*Form for Exemption to be lodged with RGU prior to project commencement, to be ratified as exempt by IRRC at its next 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220840" y="2789280"/>
            <a:ext cx="1500120" cy="1477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EVEL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923000" y="1201680"/>
            <a:ext cx="7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23:18:45Z</dcterms:created>
  <dc:creator>ksharp</dc:creator>
  <dc:description/>
  <dc:language>en-US</dc:language>
  <cp:lastModifiedBy>Cathy Schapper</cp:lastModifiedBy>
  <cp:lastPrinted>2017-03-07T22:45:32Z</cp:lastPrinted>
  <dcterms:modified xsi:type="dcterms:W3CDTF">2017-06-23T06:01:48Z</dcterms:modified>
  <cp:revision>17</cp:revision>
  <dc:subject/>
  <dc:title>PowerPoint Presentation</dc:title>
</cp:coreProperties>
</file>